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5D34-CE43-4497-91E0-AEAF586EA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8E9D-F5AF-42F6-9C08-E962EEBAB6D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93ABD-D7F6-420D-A239-32D19322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8103D-7D7D-4177-9669-7386B80C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EBED7-BBB2-44CF-8E30-69BAA08F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A5E6B-ED0A-4DDF-91BF-36623FCD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9230F-585D-4ABC-9D11-F10EFE7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7082D-618C-4958-9FAB-AD431B23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B4418-F33D-40E5-B69B-1AFD5147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2A3949-F847-4A7B-964E-B3F35AF6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9E5A7B-A0BE-4C8B-A088-639C6166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306E3-92D2-4B22-B616-4CB1C197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C8A8-8647-4F02-88E9-A3519725915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D27BC8-FCEB-4C1F-86EE-B696220D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7BBEED-180B-4713-A9AD-AF1354EA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776688-2FEC-4780-BEB4-0F6680A1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2AE06-C2EE-48CF-B483-F1B5151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90196-EED0-4DCB-A964-FBFC8669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D34E4A-922A-4DA4-A593-F35A72B2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DB21BE-F197-47A4-A1E4-42702463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350C14-1D0F-4D77-873D-87349F3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42FAE4-73D3-41AA-AC17-1C0C448A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28681-BDE0-4E8F-BE44-CC52BF42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475C-B340-4312-9D4D-72D5FD944C7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85983-4157-4921-A775-11E56403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AEECCA-461E-4AB8-AA90-CFE09420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6AC77E-38F8-4624-BE22-8F7FAC3A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46F37E-A870-4347-A7FC-24536839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5E8DFD-B637-4D94-BD22-09793F77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0C67E2-F46A-46E6-9B3C-5A5EAE64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1CD43-91CB-4FB9-8773-A4B5D983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F87435-98A6-4A45-80A2-B735209D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5D85E7-2ADD-4DCE-A11F-3C2E1421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3E5C05-584B-4920-95DB-C901CEF7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D5532-1237-4CE7-B512-63746C1E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B8A295-18F7-4C4C-B0D8-A9F5638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3AC8D3-4B34-4323-90E8-16B06095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24ADE6-1331-4987-999A-5D2DD3F0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2990CF-B532-435A-B11C-2AC8EC30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0F63E1-A332-4BC9-974F-D71F801C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A67A9F-A01C-4F21-9C4B-13B13A94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A293A4-92A6-41D1-B0FC-21E46307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3A1B4D-8EAC-4A45-A09C-4DABD6CE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4DAA32-1B45-44A3-B5EA-297A2310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C3F1CC-6717-4DAF-9078-79D91F0A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91272-8C1A-424C-8741-F922F753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0E6319-C5C4-4F7F-840C-91CA91D5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F47E6F-54FC-4ABF-9028-E697EE7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11B72D-25B1-41E3-8D57-965E6F9C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89B169-4947-4CD8-A172-F08A43D7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81EEE8-8BE1-4C8D-9D88-9515D56D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651B0-BAF7-4915-80A6-959E5A66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7A707-5644-4C23-8E80-03AD666B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E3D2A-7DEF-4A04-9433-B0B62E18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C044B-4486-4FF8-B833-7702BB41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8073-79FB-4D37-99F7-BF198A9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B160-B8CC-4290-8841-50F55E390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B0B61-B31F-4F17-B098-39B8DB5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AB962-C545-4F77-9991-AE8E91E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04CDD-FF6C-467E-9CEB-84F318F6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D1B82-C34E-4E42-ADB7-CE4A3FA9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F5DEE-CC71-4C09-8ADC-D792FF8D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F5F2C6-B662-44C1-B021-3BFDA4B3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152B0-6016-4550-A9D1-17260AE3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50B0E8-3135-401F-962D-7DEAE42C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AF39F-EA98-4643-BE40-EE0CA775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9BE7B-2DEE-4CD5-BF31-D73A58C4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C66F-9C57-4AF1-AF61-E9CE955BE0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37AB9-04FF-4BE2-AD96-99D3410D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7C750-BDAC-46F6-B5AF-5E60FA97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25B72-7E36-4568-AA84-63A0EC3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2C840-3E16-415C-AAFA-3CF5259E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4F5C9-A5A5-4687-9451-BCD21503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0BB61E-0D07-4E26-A4D7-30734C64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D91B1-5AF4-4E32-A9A6-69F95AD0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7D1C6-5A65-4EA1-8D07-694BE593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E18613-A52A-400B-BAD9-57DDA776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375DD-3DA4-4AE1-9A57-DF056860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323F-F219-4C7B-8498-FB19EE3FF2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5C72C-5FF3-4FA1-A921-E65B6870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600F2-E5CD-4FAE-AC56-61F64071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DF2C7-34E9-45A7-AA61-B9D26FFE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D171D-076A-47BD-8818-88EBD898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64335-9775-4F16-AD0F-024FF9CB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A627B-DE82-4740-A5E5-F7C3CF00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8069E-3733-4C56-8A30-B297D862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34011-2C5E-4710-9D4F-B29FC171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ED9DB7-D5DB-4795-9B33-B579F97C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FE53-9D0F-4028-BAED-E9A631A501E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C01D-4747-47DB-83C3-DE27A17A6CC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FA5B5A-5F01-4207-92DA-D78FB319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12DC3E-FD87-40C2-89B8-42BD01B1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F13492-BA80-41D0-B662-98386611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C1B7EC-E1E8-48A6-818E-E080767F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C6974-8A26-45C1-993C-BF555815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22C998-39F9-4DDF-9B21-4FCDE84B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4AF1EF-FD61-4FA8-A7D7-547A5216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92FDD4-2C1D-4D4D-926D-2D6035BF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F7D58A-D735-4D42-8A38-DB739FD2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D252-263F-4248-BDD9-9662687C31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C48E26-789E-4D68-9C63-40113462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640E5-5E1F-4076-8376-81A6B113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711D32-D8C7-43B0-B337-A23CF60E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C8C315-6FB7-4650-B3B7-91102DD0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B8EAC4-96F8-4046-9356-A0272A67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21E993-D74D-49FE-ADC6-43D7839D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B269A8-BBB0-425D-A3A2-6F546181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EFC62C-1136-420E-868F-1D5A5DF8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51FC67-352B-4406-8A58-72FF936F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21487C-9083-4824-8E75-FF1874C4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E51F-0F4F-4B44-85A7-C1C078E0054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E5631-C518-4927-A296-A7F843F8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372DDE-8499-4C98-ACC1-1110AEB9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EA57D0-8406-4A70-A5C6-12B6B69A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072F38-D199-4E22-BAE4-D981E8D7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9DE8F-C2BF-4150-A71E-CB9DEF7D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3BC95-0F05-4E2C-98ED-342B9EB83CC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91E04-0D83-4008-B18F-9E4BDDF1C18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32C68-CFBE-4CAD-9D3E-CD74AB18BA0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4CF33-2815-452E-847D-69E8290C766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E13B9-EBD3-4E51-81EB-5D6AC0F30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4D7D-821A-4EFD-945F-9AA98838F26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599840" y="229680"/>
            <a:ext cx="87678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8D932-DC1E-46E2-8701-DC0EA89B85F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0DA43-57A8-4F31-98F9-E2E2DDA1CB7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B6CDF-9434-4818-A9BA-720BA0EFBC5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0D7D1-DA04-4330-A752-073279FFC7B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95299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3EC75-B067-4D8C-AADF-6A972B7DCD9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721480" y="182520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721480" y="4098240"/>
            <a:ext cx="4650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9B2E0-1CA5-4D67-B74E-8319D1F288D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60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282080" y="182520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060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7282080" y="4098240"/>
            <a:ext cx="3068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6DCA7-212C-4BED-83E6-F04AE8EBD7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5AA1D-EC9D-4176-8DD2-C08D6207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45AD1-BCE6-47DE-8F8D-81647E5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CDC93-3575-4F1B-B57E-DDB8D1B8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6D2D-E4CA-466D-A8AC-A82701DA7640}" type="slidenum"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2FA3-4912-4A4A-87AA-08CD4DBD9E04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3"/>
          </p:nvPr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D116-A34E-4693-BB01-0BDB2A77C6AA}" type="slidenum"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59C8-51C0-40CE-AE28-DCED15DCAA5B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6"/>
          </p:nvPr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B37B-29E6-4784-A24A-E71598286E04}" type="slidenum"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16A4-5CDB-4AE7-B641-BEF84918448B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9"/>
          </p:nvPr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CE8-395F-4CFF-B6D0-6B63BD5EFE6D}" type="slidenum"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Рисунок 7" descr=""/>
          <p:cNvPicPr/>
          <p:nvPr/>
        </p:nvPicPr>
        <p:blipFill>
          <a:blip r:embed="rId3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7B9D-995A-4D82-B3DE-CBF7A7C065F5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347F-0654-4347-BC73-DE622BD92541}" type="slidenum"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A8B7-B485-463A-AC9F-844FE49092B3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10502640" y="573120"/>
            <a:ext cx="6714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e75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A8BD-78A4-45D9-ADC8-0DE1F109DA43}" type="slidenum">
              <a:rPr b="0" lang="ru-RU" sz="1400" spc="-1" strike="noStrike">
                <a:solidFill>
                  <a:srgbClr val="2e75b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7002-E9CD-40C9-A941-0BFB612C8907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0"/>
          </p:nvPr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C8DA-DDE8-47C9-9059-90A3C4EA3F26}" type="slidenum"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"/>
          <p:cNvPicPr/>
          <p:nvPr/>
        </p:nvPicPr>
        <p:blipFill>
          <a:blip r:embed="rId3"/>
          <a:stretch/>
        </p:blipFill>
        <p:spPr>
          <a:xfrm>
            <a:off x="0" y="14400"/>
            <a:ext cx="12220560" cy="6877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0522-E9B7-48A0-A8A0-A90F61711872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3"/>
          </p:nvPr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B3A2-F335-4E0B-8232-A4D24F2B9EC4}" type="slidenum"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57E8-7BE7-4029-ADD8-B600EF1DB2F6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5620-ED81-4F4B-97AD-67AAEE3F2A5E}" type="slidenum"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7"/>
          <p:cNvSpPr/>
          <p:nvPr/>
        </p:nvSpPr>
        <p:spPr>
          <a:xfrm>
            <a:off x="0" y="1171440"/>
            <a:ext cx="1219212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Прямоугольник 8"/>
          <p:cNvSpPr/>
          <p:nvPr/>
        </p:nvSpPr>
        <p:spPr>
          <a:xfrm>
            <a:off x="11493360" y="123840"/>
            <a:ext cx="698760" cy="18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7"/>
          </p:nvPr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8E45-D17C-41FC-9753-3958C40B5257}" type="slidenum"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5a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670B-2B9C-4979-8CAA-20C4E370421F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0"/>
          </p:nvPr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F268-A158-4946-AA17-C1BC9E861F63}" type="slidenum"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Заголовок 1"/>
          <p:cNvSpPr/>
          <p:nvPr/>
        </p:nvSpPr>
        <p:spPr>
          <a:xfrm>
            <a:off x="1058760" y="2730600"/>
            <a:ext cx="89694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55a3"/>
                </a:solidFill>
                <a:latin typeface="Tahoma"/>
                <a:ea typeface="Tahoma"/>
              </a:rPr>
              <a:t>Семина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5a3"/>
                </a:solidFill>
                <a:latin typeface="Tahoma"/>
                <a:ea typeface="Tahoma"/>
              </a:rPr>
              <a:t>для педагогических работников, руководителей отрядов ЮИД и сотрудников Госавтоинспекции по вопросам использования методических материалов при обучении детей навыкам безопасного участия в дорожном движ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5a3"/>
                </a:solidFill>
                <a:latin typeface="Tahoma"/>
              </a:rPr>
              <a:t>Структура сценариев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занятия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и задачи занятия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комендации по материально-техническому обеспечению занятия, в том числе к локации, демонстрационному и обучающему оборудованию, дидактическим и информационным материалам, раздаточному материалу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д занятия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8D6A-AD7D-4622-BB95-E1C9E36F97A4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5a3"/>
                </a:solidFill>
                <a:latin typeface="Tahoma"/>
              </a:rPr>
              <a:t>Рекомендации по применению сценариев</a:t>
            </a:r>
            <a:endParaRPr b="0" lang="en-US" sz="36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ценарии являются методической основой для проведения занятий: они могут  сокращаться, дополняться, не исключается творческий подход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ценарии содержат иллюстративный материал: рисунки, схемы, диаграммы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подготовке к проведению занятий важно исключить ошибки преподавания основ правил дорожного движения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ует учитывать рекомендации к материально-техническому обеспечению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разработке сценариев занятий делается акцент на решение ситуационных задач и предполагается проектная деятельность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E276-5356-44C2-B6D0-28D7E7432E4D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5a3"/>
                </a:solidFill>
                <a:latin typeface="Tahoma"/>
              </a:rPr>
              <a:t>Психологические особенности учащихся разных возрастов и эффективные методики обучения БДД</a:t>
            </a:r>
            <a:endParaRPr b="0" lang="en-US" sz="2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а младших школьников (6-9 лет): развитие целостного мировоззрения, понимание своей роли как участника дорожного движения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выки: наблюдение, переключение внимания на дорогу, оценка действий участников дорожного движения, развитие самоконтроля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а младших подростков (10-12 лет):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выки: самостоятельность, автономия, навыки взаимодействия и руководства группой, лидерские качества, навыки подготовки и представления презентаций, публичных выступлений, ораторское мастерство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а старших подростков (13-14 лет):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выки: понимание причин своего поведения и поведения других участников дорожного движения, развитие критического мышления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55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5905-3B01-458A-ACE6-D3D9DDCD0CD0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5a3"/>
                </a:solidFill>
                <a:latin typeface="Tahoma"/>
              </a:rPr>
              <a:t>Сценарии мероприятия «Неделя Безопасности»</a:t>
            </a:r>
            <a:endParaRPr b="0" lang="en-US" sz="36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устойчивых навыков социально приемлемого поведения и повышения компетентности юных пешеходов и водителей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ценарии: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ются как самостоятельные мероприятия, так и в рамках уроков ОБЖ, окружающего мира, внеурочной деятельности, в программам дополнительного образования как вводные занятия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ют смену деятельности, позволяющую существенно повысить степень усвоения материала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лагают теоретическую часть и практическое закрепление пройденного материала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42C2-826B-4606-85ED-8E7FB22E2538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5a3"/>
                </a:solidFill>
                <a:latin typeface="Tahoma"/>
              </a:rPr>
              <a:t>Темы занятий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38080" y="1457280"/>
            <a:ext cx="95299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класс «Безопасный путь в школу с родителями и без»;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 класс. «Я пешеход» — правила для пешеходов, перекрестки, светофоры и т. д.;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 класс. «Я пассажир»;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 класс. «Я велосипедист»;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 класс. «Средства передвижения пешеходов. Скейты, ролики, самокаты»;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 класс. «Культура безопасности, свод правил или ответственность каждого?»;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 класс. «Засветись! Значение и польза световозвращающих элементов для участников дорожного движения»;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класс. «Я велосипедист»;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9 класс. «Мопеды»;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0 класс. «Законодательство в области дорожного движения. Ответственность несовершеннолетних»;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1 класс. «Автошколы». 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8536-B486-453A-A937-D649EDA718C4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55a3"/>
                </a:solidFill>
                <a:latin typeface="Tahoma"/>
              </a:rPr>
              <a:t>1 класс «Безопасный путь в школу с родителями и без» (младшие классы)</a:t>
            </a:r>
            <a:br>
              <a:rPr sz="3200"/>
            </a:br>
            <a:endParaRPr b="0" lang="en-US" sz="32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изучаемые понятия и термины: первые правила дорожного движения, дорожные знаки, светофоры, дорожные ловушки, безопасный маршрут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создать условия для приобретения практического навыка у младших школьников в определении безопасного маршрута. Знакомство с понятием «дорожные ловушки». Формирование практических умений действовать в дорожных ситуациях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т проведения: занятие проводится в игровой форме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8DCE-C336-4052-83BD-CB47574171EE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Рисунок 4" descr="стр 17 (1)"/>
          <p:cNvPicPr/>
          <p:nvPr/>
        </p:nvPicPr>
        <p:blipFill>
          <a:blip r:embed="rId1"/>
          <a:stretch/>
        </p:blipFill>
        <p:spPr>
          <a:xfrm>
            <a:off x="2251080" y="4303800"/>
            <a:ext cx="6703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55a3"/>
                </a:solidFill>
                <a:latin typeface="Tahoma"/>
              </a:rPr>
              <a:t>5 класс «Средства передвижения пешеходов. Скейты, ролики, самокаты» (средние классы)</a:t>
            </a:r>
            <a:br>
              <a:rPr sz="3600"/>
            </a:br>
            <a:endParaRPr b="0" lang="en-US" sz="28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изучаемые понятия и термины: участник дорожного движения, тротуар, проезжая часть, обочина, разделительная полоса, полоса для движения, пешеходная дорожка, перекресток, средства передвижения пешеходов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закрепить имеющиеся знания о дороге, дорожном движении, безопасности. Сформировать устойчивый навык к изучению и соблюдению правил дорожного движения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т проведения: интерактивный урок с теоретической и практической частями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5DFC-F219-4EF8-A7C8-1EA8B91EFEFC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Рисунок 4" descr="том 3 стр 56 (1)"/>
          <p:cNvPicPr/>
          <p:nvPr/>
        </p:nvPicPr>
        <p:blipFill>
          <a:blip r:embed="rId1"/>
          <a:stretch/>
        </p:blipFill>
        <p:spPr>
          <a:xfrm>
            <a:off x="1503360" y="4448160"/>
            <a:ext cx="3854520" cy="194796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5" descr="том 3 стр 56 (2)"/>
          <p:cNvPicPr/>
          <p:nvPr/>
        </p:nvPicPr>
        <p:blipFill>
          <a:blip r:embed="rId2"/>
          <a:stretch/>
        </p:blipFill>
        <p:spPr>
          <a:xfrm>
            <a:off x="6284880" y="4448160"/>
            <a:ext cx="31543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55a3"/>
                </a:solidFill>
                <a:latin typeface="Tahoma"/>
              </a:rPr>
              <a:t>9 класс. «Мопеды» (старшие классы)</a:t>
            </a:r>
            <a:br>
              <a:rPr sz="3600"/>
            </a:br>
            <a:endParaRPr b="0" lang="en-US" sz="36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838080" y="1571760"/>
            <a:ext cx="95299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изучаемые понятия и термины: ответственность участника дорожного движения, водитель мопеда, правила дорожного движения для водителей мопедов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формирование у старшеклассников системы знаний, умений и навыков в области безопасности дорожного движения. Ознакомление учащихся с правилами дорожного движения для водителей мопедов, законодательством в области дорожного движения в части ответственности водителей мопедов. Развитие умения моделировать дорожные ситуации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т проведения: интерактивный урок с теоретической и практической частями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EBD9-4E88-406F-9503-06F9603DC41D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5286240" y="4915080"/>
            <a:ext cx="1535400" cy="906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7929720" y="4697280"/>
            <a:ext cx="1528560" cy="1330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Скругленный прямоугольник 6"/>
          <p:cNvSpPr/>
          <p:nvPr/>
        </p:nvSpPr>
        <p:spPr>
          <a:xfrm>
            <a:off x="2852640" y="4876920"/>
            <a:ext cx="1468440" cy="1481040"/>
          </a:xfrm>
          <a:custGeom>
            <a:avLst/>
            <a:gdLst>
              <a:gd name="textAreaLeft" fmla="*/ 71640 w 1468440"/>
              <a:gd name="textAreaRight" fmla="*/ 1396800 w 1468440"/>
              <a:gd name="textAreaTop" fmla="*/ 71640 h 1481040"/>
              <a:gd name="textAreaBottom" fmla="*/ 1409400 h 1481040"/>
            </a:gdLst>
            <a:ahLst/>
            <a:rect l="textAreaLeft" t="textAreaTop" r="textAreaRight" b="textAreaBottom"/>
            <a:pathLst>
              <a:path w="21600" h="21785">
                <a:moveTo>
                  <a:pt x="3600" y="0"/>
                </a:moveTo>
                <a:arcTo wR="3600" hR="3600" stAng="16200000" swAng="-5400000"/>
                <a:lnTo>
                  <a:pt x="0" y="18185"/>
                </a:lnTo>
                <a:arcTo wR="3600" hR="3600" stAng="10800000" swAng="-5400000"/>
                <a:lnTo>
                  <a:pt x="18000" y="217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Рисунок 7" descr="том 3 стр 119 (1)"/>
          <p:cNvPicPr/>
          <p:nvPr/>
        </p:nvPicPr>
        <p:blipFill>
          <a:blip r:embed="rId4"/>
          <a:stretch/>
        </p:blipFill>
        <p:spPr>
          <a:xfrm>
            <a:off x="838080" y="4697280"/>
            <a:ext cx="160992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Номер слайда 3"/>
          <p:cNvSpPr/>
          <p:nvPr/>
        </p:nvSpPr>
        <p:spPr>
          <a:xfrm>
            <a:off x="10528200" y="492120"/>
            <a:ext cx="673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D4F-2840-4AF7-B90E-0433B52AB782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bject 3"/>
          <p:cNvSpPr/>
          <p:nvPr/>
        </p:nvSpPr>
        <p:spPr>
          <a:xfrm>
            <a:off x="947880" y="2528640"/>
            <a:ext cx="88693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b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5a3"/>
                </a:solidFill>
                <a:latin typeface="Tahoma"/>
                <a:ea typeface="Tahom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5a3"/>
                </a:solidFill>
                <a:latin typeface="Tahoma"/>
              </a:rPr>
              <a:t>Стратегия безопасности дорожного движения</a:t>
            </a:r>
            <a:endParaRPr b="0" lang="en-US" sz="36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838080" y="1647360"/>
            <a:ext cx="95299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ратегией провозглашается стремление к нулевой смертности на дорогах к 2030 году. 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ачестве целевого ориентира на 2024 год установлен показатель социального риска, составляющий не более четырёх погибших на 100 тысяч населения.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сновные тезисы Стратегии: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зменение поведения участников дорожного движения с целью безусловного соблюдения норм и правил дорожного движения;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вышение защищённости от дорожно-транспортных происшествий и их последствий наиболее уязвимых участников дорожного движения, прежде всего детей и пешеходов;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овершенствование улично-дорожной сети по условиям безопасности дорожного движения, включая развитие организации дорожного движения;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 др.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EF37-EC9B-4E8D-BDF7-326F58461824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5a3"/>
                </a:solidFill>
                <a:latin typeface="Tahoma"/>
              </a:rPr>
              <a:t>Концепция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38080" y="1581120"/>
            <a:ext cx="95299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цепция информационно-пропагандистского проекта по организации работы по привитию детям навыков безопасного участия в дорожном движении и вовлечению их в деятельность отрядов юных инспекторов движения в 2019 году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разработке Концепции проводился анализ: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адиционных и инновационных методов воспитательной работы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физиологических особенностей детей различных возрастных групп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литературы по тематике детского дорожно-транспортного травматизма;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ых тенденций в обучении, в том числе принципам БДД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е исследование мнения целевых групп участников и потенциальных участников отрядов ЮИД (дети 7-14 лет): информированность о движении ЮИД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F8E4-5C6D-4CA4-8699-AFD6E316D6E2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5a3"/>
                </a:solidFill>
                <a:latin typeface="Tahoma"/>
              </a:rPr>
              <a:t>Концепция и решение проблем отрядов ЮИД</a:t>
            </a:r>
            <a:endParaRPr b="0" lang="en-US" sz="36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пция помогает наметить пути решения проблем в функционировании отрядов ЮИД, таких как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озненность отрядов;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очное привлечение к учебно-воспитательной работе современных технологий и методик обучения;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очное мотивирование потенциальных участников на вступление в отряды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F42D-B243-4C86-892F-686E6E697D61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5a3"/>
                </a:solidFill>
                <a:latin typeface="Tahoma"/>
              </a:rPr>
              <a:t>Основные направления работы, утвержденные в Концепции</a:t>
            </a:r>
            <a:endParaRPr b="0" lang="en-US" sz="36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мероприятий по увеличению численности участников движения ЮИД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мероприятий по улучшению материально-технического обеспечения отрядов ЮИД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условий для обучения участников отрядов ЮИД основам правил дорожного движения и методам пропаганды безопасности дорожного движения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уровня значимости отрядов ЮИД в общественной деятельности по пропаганде здорового образа жизни и законопослушного поведения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единой информационной и организационно-методической базы в области развития и поддержки движения ЮИД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остранение положительного опыта между участниками отрядов ЮИД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 общественными организациями зарубежных стран, по тематике БДД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1E48-FC9B-4E98-A33D-06E0FA234D3A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5a3"/>
                </a:solidFill>
                <a:latin typeface="Tahoma"/>
              </a:rPr>
              <a:t>Способы мотивирования учащихся на вступление в отряды ЮИД</a:t>
            </a:r>
            <a:endParaRPr b="0" lang="en-US" sz="36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руководителем отряда ЮИД всех учащихся образовательной организации и их родителей о деятельности отряда ЮИД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лечение инспекторов по пропаганде подразделений Госавтоинспекции к созданию в образовательной организации отряда ЮИД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первого общего открытого сбора отряда ЮИД, в котором принимают участие кандидаты в члены отряда ЮИД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отрядом ЮИД своей странички в социальных сетях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A620-BAFF-447B-82A3-12A092D5BC9A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55a3"/>
                </a:solidFill>
                <a:latin typeface="Tahoma"/>
              </a:rPr>
              <a:t>Мероприятия по улучшению материально-технического обеспечения отрядов ЮИД</a:t>
            </a:r>
            <a:br>
              <a:rPr sz="3600"/>
            </a:br>
            <a:endParaRPr b="0" lang="en-US" sz="28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ые материально-технические средства, используемые в работе с отрадами ЮИД: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ющий игровой комплекс (комплект из макетов дорожных знаков, пешеходных и транспортных светофоров, светофоров с держателями, жезла и свистка)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льтимедийная учебно-методическая программа (программное обеспечение, которое содержит учебный материал по правилам дорожного движения в виде иллюстраций, фильмов, задач и экзаменационных билетов)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ели дорожных знаков, атрибутика регулировщика и т.д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8EC6-55F6-4C28-B869-E7C70948660D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5a3"/>
                </a:solidFill>
                <a:latin typeface="Tahoma"/>
              </a:rPr>
              <a:t>Методические рекомендации к проведению занятий в отрядах ЮИД, разработанные в 2019 году</a:t>
            </a:r>
            <a:endParaRPr b="0" lang="en-US" sz="24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ценарии занятий с отрядами ЮИД (7-9 лет, 10-12 лет, 13-14 лет). Содержат тематические модули: история правил дорожного движения, ЮИД и Госавтоинспекции, профессиональная ориентация, принципы безопасного поведения всех участников дорожного движения (пешеход, пассажир, водитель), оказание первой помощи, построение безопасного маршрута, советы юному пропагандисту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глядные материалы («Велоактивити», материалы для сборки моделей автомобилей, карточки с формой сотрудников дорожно-патрульной службы Госавтоинспекции разных лет и членов отрядов ЮИД, пазлы для сборки дорожных знаков и т. д.)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льтимедийные материалы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можно найти: сай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идроссии.рф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 разделе «Для педагогического работника» и далее «Методические материалы»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60D6-95EE-4189-ABD2-307C2CC31244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99840" y="229680"/>
            <a:ext cx="8767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5a3"/>
                </a:solidFill>
                <a:latin typeface="Tahoma"/>
              </a:rPr>
              <a:t>Сценарии занятий с детьми</a:t>
            </a:r>
            <a:endParaRPr b="0" lang="en-US" sz="4000" spc="-1" strike="noStrike">
              <a:solidFill>
                <a:srgbClr val="0055a3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38080" y="1825200"/>
            <a:ext cx="952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ено шесть тематических модуля: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уль 1 «История ПДД, ЮИД, Госавтоинспекции»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уль 2 «Профессиональная ориентация»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уль 3 «Участник дорожного движения (пешеход, пассажир, водитель)»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уль 4 «Оказание первой помощи»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уль 5 «Безопасный маршрут»;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уль 6 «Советы юному пропагандисту»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Итоговые мероприятия курса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10503000" y="573120"/>
            <a:ext cx="671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B30D-6C52-49AB-AC31-A4AD6C4FF865}" type="slidenum">
              <a:rPr b="0" lang="ru-RU" sz="14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5T13:58:07Z</dcterms:created>
  <dc:creator>Valentina Kulbitskay</dc:creator>
  <dc:description/>
  <dc:language>en-US</dc:language>
  <cp:lastModifiedBy>Nargiz Djavatova</cp:lastModifiedBy>
  <dcterms:modified xsi:type="dcterms:W3CDTF">2020-10-19T06:51:54Z</dcterms:modified>
  <cp:revision>805</cp:revision>
  <dc:subject/>
  <dc:title>Презентация PowerPoint</dc:title>
</cp:coreProperties>
</file>